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3959-97BC-49AC-8007-9E546AF742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7DA-41A0-49EF-AAE8-6842823E30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E9D-C1C1-40D7-86C6-3C2BEF58AA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C4C-3DE8-4ED0-A110-90FCD8CC9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599-D5D6-4FDB-860B-BC70DC162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E42-8A92-4DE7-BF26-CEC24FFE1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AA6-740A-4892-BE05-ADB3FDFFC9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DBD-8174-4D57-9B5A-6FA569B04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9BC-4D97-42BB-9C8E-2ACAEEB7BA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BF2-4043-41A4-8C20-BB8927ABF5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7FD-6E96-45CF-8EF3-7334F0CC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145-8707-4105-AB64-CCF7EF9B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746-763C-4C1D-B6F6-6EB9359B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E73-42EE-4D5A-B562-5BD848BA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74A6-3976-4641-BD85-E6A2BD7C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FEF9-771B-491A-B490-A3359B25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88F-8326-4F14-A32D-535D4E49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DC6B-B7A9-4C17-9C58-1B86F203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E6D-7C1D-4C33-B62F-EBACF64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68D5-657C-4235-B4A7-8717D32C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83A9-E9E8-4291-8038-B3156BD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160-7039-4DC0-B8F5-1A90F0F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4166-6D64-4EAB-A228-BF51772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3FC5-89C3-4904-B3A0-4C426EF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9CC-246B-4A74-93A2-EF25740E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A2DC-57A7-4842-B727-536CE15E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6080-87E8-42C1-B42B-EE716BAD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D65-9A0D-46DB-ABCE-A0D2FA8E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E00-95E3-4C89-8213-976F6D3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9BB-1393-4E0D-8182-654F372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37C-CD39-4717-8477-97E1675A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4ED-A0C6-4BEC-A08A-87034F4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F34-DFFE-4278-B703-CF1C52F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635-A6B7-4D5D-AFBA-8816D4E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092-59FA-4DEB-B172-8B26D4BE7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EA68-4967-487F-AC2E-53DBFB5510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31148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Ч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1438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500200"/>
            <a:ext cx="7143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Ч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7077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238880" cy="1500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7180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71080" y="335772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14040" y="221472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026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25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210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633680" y="1857240"/>
            <a:ext cx="7408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000160" y="104760"/>
            <a:ext cx="635796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34:44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